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3B6-F34A-4A51-8173-AA024190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CB2-14C2-4D14-9C9D-CB37D56D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BB6-C9DC-4DBD-85C6-536B5706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491-BDC1-4EC6-A699-14F7F188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6FED-CC68-4765-9245-91B1AEC4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DD39-7220-43F2-9253-F4B39EB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AC3-259B-4693-A927-C9F26C20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91B8-A533-4544-AC85-9245A997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DE9A-01E9-4D0C-9950-3BD56694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28BF-4CBD-43E1-AA14-6F5ECA86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5897-4DD2-41BE-A99A-E2073BB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D83-303C-419C-968D-9BC25713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DD5F-256F-4EC0-B83B-6B84F54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2139-D0E0-4655-B329-9B67A835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CF0D-F135-4710-BF26-C7EFE993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D714-C1A3-4E9D-AB03-4A85F7E3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F82F-514D-407C-8F80-ABDE6371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37B-3871-45CD-9A39-BB36606D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424-90E6-4FE8-85FC-6F16E332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C7B-4285-4ABB-8BA7-5CB4ABB8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4A9-CE14-411A-B107-542C917C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104-36A6-4899-8093-632162E8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E19-6D7D-4BEB-864C-314537EE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9D5-1BE8-42D4-8307-C587FD6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1D6C-4AD2-4572-B090-A297097358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CF6B-8EC2-4C24-8144-E620D25C55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   Clase 8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5 de marzo del 2011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Propósito # 47: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Qué comes cuando tienes hambr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n un compañero, completa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Ejercicio 6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p. 13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536400"/>
            <a:ext cx="7313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Ejercicio 7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13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rar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Gramatica en viv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Ejercicio 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13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KBOO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p. 4.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041720"/>
            <a:ext cx="73137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47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3:50:23Z</dcterms:created>
  <dc:creator>Helen Zumaeta</dc:creator>
  <dc:description/>
  <dc:language>en-US</dc:language>
  <cp:lastModifiedBy>Helen Zumaeta</cp:lastModifiedBy>
  <dcterms:modified xsi:type="dcterms:W3CDTF">2011-03-15T16:53:26Z</dcterms:modified>
  <cp:revision>2</cp:revision>
  <dc:subject/>
  <dc:title>Me llamo ___________    Clase 8IM La fecha es el 15 de marzo del 2011</dc:title>
</cp:coreProperties>
</file>